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C1E7-0241-4D9A-AF24-C7EF6DDC2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0D01-32E1-482D-AB4E-EA110851A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6930-8946-4BCF-9E64-1D084F922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4F68-77C4-4D56-BB52-F20A54661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B626-7A8D-44A7-BFBF-DBED259F8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50C7-EDEC-49AE-9EE0-3BACDC076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20FF-46E6-42D2-AD3E-E2F76C2C5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AA20-D245-45A8-A4B5-5C9FE0731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9696-F2BF-4157-A43B-7FF3FC127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911A-F2EA-4329-A792-8D3C99C1E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CE7E-5000-4D24-BA75-DC7EA5309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6865-731E-4B69-91C3-71E01222E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AE90405-8A99-462B-B837-92AC0F383B06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4000" y="1684800"/>
            <a:ext cx="9071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493560" indent="0" algn="ctr">
              <a:spcBef>
                <a:spcPts val="6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2" marL="987480" algn="ctr">
              <a:spcBef>
                <a:spcPts val="550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3" marL="1481040" algn="ctr"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1900" spc="-1" strike="noStrike">
              <a:solidFill>
                <a:srgbClr val="000099"/>
              </a:solidFill>
              <a:latin typeface="Comic Sans MS"/>
            </a:endParaRPr>
          </a:p>
          <a:p>
            <a:pPr lvl="4" marL="1974960" algn="ctr">
              <a:spcBef>
                <a:spcPts val="275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  <a:p>
            <a:pPr lvl="5" marL="1974960">
              <a:spcBef>
                <a:spcPts val="275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  <a:p>
            <a:pPr lvl="6" marL="1974960">
              <a:spcBef>
                <a:spcPts val="275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6000" y="791640"/>
            <a:ext cx="986472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6600" spc="-1" strike="noStrike">
                <a:solidFill>
                  <a:srgbClr val="0066ff"/>
                </a:solidFill>
                <a:latin typeface="Comic Sans MS"/>
              </a:rPr>
              <a:t>Programme Hôpital</a:t>
            </a:r>
            <a:endParaRPr b="0" lang="en-US" sz="6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84000" y="4176360"/>
            <a:ext cx="7056360" cy="2320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6000" spc="-1" strike="noStrike">
                <a:solidFill>
                  <a:srgbClr val="000099"/>
                </a:solidFill>
                <a:latin typeface="Comic Sans MS"/>
              </a:rPr>
              <a:t>Réunion éditeurs du 11 juin 2008</a:t>
            </a:r>
            <a:endParaRPr b="0" lang="en-US" sz="6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5640" y="0"/>
            <a:ext cx="907236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Point de situation sur la certification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7280" y="1584360"/>
            <a:ext cx="9793440" cy="468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Certifica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16 certificats délivrés pour le JE 022003-B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22 certificats délivrés pour le JE 062005-A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24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000" spc="-1" strike="noStrike">
              <a:solidFill>
                <a:srgbClr val="0066ff"/>
              </a:solidFill>
              <a:latin typeface="Comic Sans MS"/>
            </a:endParaRPr>
          </a:p>
          <a:p>
            <a:pPr lvl="2" marL="1235160" indent="-247680">
              <a:spcBef>
                <a:spcPts val="550"/>
              </a:spcBef>
              <a:buClr>
                <a:srgbClr val="99ccff"/>
              </a:buClr>
              <a:buSzPct val="65000"/>
              <a:buFont typeface="Wingdings" charset="2"/>
              <a:buChar char="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’ensemble des produits certifiés intègre la participation forfaitaire 1 euro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0">
              <a:spcBef>
                <a:spcPts val="275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4 dossiers sont en cours 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E088-2AE2-414D-908C-94AE02ADE8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5640" y="0"/>
            <a:ext cx="907236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Point de situation sur la certification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6000" y="1512360"/>
            <a:ext cx="9864720" cy="495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Évolution de la certifica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Mise à disposition sur le site du CNDA du JE B2 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06-2005-B opposable à partir du 1er juin 2008.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Décision en cours de signature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2" marL="1235160" indent="-247680">
              <a:spcBef>
                <a:spcPts val="60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Fin de la certification des normes B2 2003 et B2 06-2005A au 31 août 2008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60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Les éditeurs qui ont déposé un dossier au CNDA avec le jeu d’essai dans ces 2 normes ont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Comic Sans MS"/>
              </a:rPr>
              <a:t>1 mois 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our terminer la procédure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7E76-840E-4D89-A0D7-2C8B9D7F6F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5640" y="0"/>
            <a:ext cx="907236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Point de situation sur la certification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rocédure de certification pour le JE 06-2005 B (à périmètre fonctionnel identique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Nouveau logiciel  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24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1000" spc="-1" strike="noStrike">
                <a:solidFill>
                  <a:srgbClr val="0066ff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Logiciel déjà certifié B2 2003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Logiciel déjà certifié B2 06-2005 A : 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rocédure différentielle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6480000" y="287964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rocédure clas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9640" y="2664000"/>
            <a:ext cx="73080" cy="1152360"/>
          </a:xfrm>
          <a:custGeom>
            <a:avLst/>
            <a:gdLst>
              <a:gd name="textAreaLeft" fmla="*/ 0 w 73080"/>
              <a:gd name="textAreaRight" fmla="*/ 26280 w 73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F316-BC2B-4BDF-B9D9-818219631D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OUSSAR Estelle</cp:lastModifiedBy>
  <dcterms:modified xsi:type="dcterms:W3CDTF">2008-06-10T10:12:55Z</dcterms:modified>
  <cp:revision>393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